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140FC-4A80-45D9-AF58-094FEC7B6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urpose of this session is to offer practical views and advice to the participants on how to make full use of mutual legal assistance rules in a more efficient way, in cybercrime cases or cases when collecting electronic evidence in another country is necessary, while always remaining in the legal, international and domestic framework.</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1F76F-8D76-4C94-8478-E3D5B214BE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akes the transition between general principles applied to general mutual legal assistance and electronic evidence sought through international judicial cooperation channels.</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A36C3F-A598-4BBA-8035-B5F1ADD00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69131-800E-4794-AA1D-C0DD335AAFB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13 to 17 will be dedicated to the efficient preparation of an MLA request, including:</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king use of other channels of cooperation, if allowed by domestic law</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king use of the Budapest convention, when applicab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ecking the information used for the drafting of the MLA request.</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3279E8-6843-401A-80DF-D60F7E13F0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This slide aims at making participants think of other legal possibilities than a mutual legal assistance request when their domestic law allowed it, which may not always be the case. The trainer should then be able to adjust to the local rules and practices on that subject. It is the occasion to engage in a short discussion with the participants on what is or is not allowed by domestic law. Participants should often come to the conclusion that not everything is specified in their domestic law, but that it may not result in concluding that evidence would not be admissible in cour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The trainer could usefully offer examples if he or she has any from his personal experience regarding the three main categories of information which could be obtained legally without an MLA request :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Alternative channels of cooper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ublicly available inform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Article 32 of the Budapest Convention (a reminder if needed from the international cooperation sesss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For instance, it could be mentioned that in some countries such as Canada, the police is independent from the judicial authority, and is the one responsible to decide whether they are allowed to share police reports. In other countries such as France, the police will always act under the supervision of the judicial authority and will therefore almost always be required to refer to the judicial authority (prosecutor or judg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It could also be mentioned regarding publicly available information that there is no need in most countries to be able to collect information from google, whereas the data is likely to be stored in another country.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Other examples of publicly available information could be the « Find an inmate » locator available to search for an inmate in U.S. federal prisons (www.bop.gov/inmateloc), or the public website allowing to check an IBAN number, and therefore to identify the bank and its branch before drafting an MLA request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Regarding article 32 of the Budapest Convention, participants should already have knowledge of it from previous sessions. However, the trainer should try to determine whether it may seem useful to remind participants of this legal possibility in a practical way : in what situations would it be permitted by domestic law? In what situations wouldn’t it be? Why?</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B540C2-39BB-47BB-A4F4-4C87FD7B6B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use of existing tools and networks in order to streamline mutual legal assistance, which may also be useful in the drafting phase in order to get information about a country’s specific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t also reminds participants of article 29 of the Budapest Convention which should have been studied in the international cooperation session. This tool is a prerequisite for a more efficient MLA request regarding electronic evidence.</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32C189-C92A-4A6A-A75D-59AFE70EE3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the trainees of two important articles of the Budapest convention which should have been explored in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rticle 35 requires every State Party to organize a 24/7 contact point for the purpose of a 24/7 network capable of responding to urgent requests. In some countries, and not all, the 24/7 network will allow for more or less exchange of information. The convention offers this possibility. However, not every country allows for the transmission of information. Moreover, as this course is about using mutual legal assistance tools, these « extra features » that are not common for every country will not be explored, but can be detailed by the trainer if he or she has knowledge about the possibilities offered by his or her national contact poi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focuses at reminding trainees of the possibility of using article 29 and request the expedited preservation of stored computer data through the 24/7 network, before sending the MLA request. </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C7C07B-E277-464C-90EB-B96929C968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nd the following explain how article 29 of the Budapest Convention is linked to mutual legal assistance in practice, and why it can optimize chances of execution of the MLA request.</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35EB0D-F3E6-4216-B988-FCEEAB1AAB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nd the previous slide explain how article 29 of the Budapest Convention is linked to mutual legal assistance in practice, and why it can optimize chances of execution of the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95B198-68FE-4950-BCAE-68344208BC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basic information they should have checked when starting to draft a mutual legal assistance request. The trainer should remind participants that the work rests on two thing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the form of the request (legal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the cont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oth are equally important in order for the request to arrive to the right authority and to be execu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79BB0-5631-492B-858D-8FA8BF277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nsists on the importance of the form requirements set up in a convention/trea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fact that once these prerequisites have been checked, they will become almost like an automatic process which will take less time while enhancing the chances for a better execution of the request.</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113A6-AC5B-4C75-B5E6-95642F0F15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fr-FR" sz="1200" spc="-1" strike="noStrike">
                <a:solidFill>
                  <a:srgbClr val="000000"/>
                </a:solidFill>
                <a:latin typeface="Calibri"/>
              </a:rPr>
              <a:t>refresh participants on the main principles of mutual leg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fr-FR" sz="1200" spc="-1" strike="noStrike">
                <a:solidFill>
                  <a:srgbClr val="000000"/>
                </a:solidFill>
                <a:latin typeface="Calibri"/>
              </a:rPr>
              <a:t>deal with how to enhance the preparation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a:t>
            </a:r>
            <a:r>
              <a:rPr b="0" lang="fr-FR" sz="1200" spc="-1" strike="noStrike">
                <a:solidFill>
                  <a:srgbClr val="000000"/>
                </a:solidFill>
                <a:latin typeface="Calibri"/>
              </a:rPr>
              <a:t>give tips in order to improve the drafting of MLA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a:t>
            </a:r>
            <a:r>
              <a:rPr b="0" lang="fr-FR" sz="1200" spc="-1" strike="noStrike">
                <a:solidFill>
                  <a:srgbClr val="000000"/>
                </a:solidFill>
                <a:latin typeface="Calibri"/>
              </a:rPr>
              <a:t>focus on the reception and execution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a:t>
            </a:r>
            <a:r>
              <a:rPr b="0" lang="fr-FR" sz="1200" spc="-1" strike="noStrike">
                <a:solidFill>
                  <a:srgbClr val="000000"/>
                </a:solidFill>
                <a:latin typeface="Calibri"/>
              </a:rPr>
              <a:t>will summarize the objectives of the course.</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A2465-11C7-4161-AE4D-11F6A6E9ED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6DC80-C007-447E-BB52-67D26F95333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19 to 44 will focus on the drafting stage of a mutual legal assistance request, from its shape and look, to its content and commonly necessary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dedicaded to the Council of Europe model MLA request. The trainer could skip them for time constraints. However, it could be useful for participants who wonder what their MLA request should look like. For UE countries, or for participants interested in the EU model, the trainer could also decide to add a model from the European Investigation Order, available on the European Judicial Network Website along with the 2014/41/UE directive : http://eur-lex.europa.eu/legal-content/EN/TXT/HTML/?uri=CELEX:32014L0041&amp;from=EN ) </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675D81-D31E-4417-A7EF-042D542C0A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points out the absence of a unique, uniform, worldwide model for MLA requests. The following slides will show participants that however, a certain amount of information requested is often the same.</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DBF71-FBC8-4AE5-A764-02BB321FAD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new European investigation order to be used throughout the European Union, except for JITs, and except for Denmark and Ireland (they opted 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or UE countries, or for participants interested in the EU model, a model of the European Investigation Order is available on the European Judicial Network Website along with the 2014/41/UE directive : http://eur-lex.europa.eu/legal-content/EN/TXT/HTML/?uri=CELEX:32014L0041&amp;from=EN ) </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778A68-801B-475F-9156-8D3BEB32EE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Council of Europe’s MLA model request, which is a guide, but is not mandatory. The following slides will reproduce the entire model request.</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698E5-E45A-4A4D-9325-6AFFFC9036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c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7453A-2B99-4910-A092-F48FDC210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C49B7-2A33-45A9-9AA9-15B778C88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3D31D-C8CF-46A4-A981-2EB2D57953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EB733F-7384-4AEE-9FE2-A1411813C7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session objectives for the participa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t the end of the session, all participants should be able 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mprove or refresh their knowledge about general principles related to mutual legal assist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Know how to improve the drafting of their MLA request, and therefore the chances for its exec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dopt a perspective turned more toward efficiency and cooperation between judicial authori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38CDF-37C9-439E-817A-03800DF00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30921-E949-4F5B-9AE0-2FC886E27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72538A-153E-4359-9644-AA0D1D2177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D98918-3889-4512-BC27-F4A0EF33DB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878B9-C8D3-4C46-9D31-46AF7A6C13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D88287-4168-435A-9AA9-85ADC418F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fr-FR" sz="1200" spc="-1" strike="noStrike">
                <a:solidFill>
                  <a:srgbClr val="000000"/>
                </a:solidFill>
                <a:latin typeface="Calibri"/>
              </a:rPr>
              <a:t>This particular slide could be used for discussion about the need to be specific regarding electronic evid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BB83C-2BF8-4632-B873-AAD1DF4922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This particular slide could be used for discussion about the need to be specific regarding electronic evidence.  It is also the occasion to mention that real-time interception of communications will not be executed by the USA on a mutual legal assistance request. The only possibility is when a U.S. case is open and used to obtain such author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6E194-F387-41D5-955A-94AB302CC9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C5D3D6-F62A-4102-8C9A-8433E60C4A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5AE93A-B391-46FC-91A9-61C7D1D9F1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B40358-1C79-47FC-B98C-6BE58CE90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4 to 11 will focus on the general principles on which mutual legal assistance rests.</a:t>
            </a:r>
            <a:br>
              <a:rPr sz="1200"/>
            </a:br>
            <a:br>
              <a:rPr sz="1200"/>
            </a:br>
            <a:r>
              <a:rPr b="0" lang="fr-FR" sz="1200" spc="-1" strike="noStrike">
                <a:solidFill>
                  <a:srgbClr val="000000"/>
                </a:solidFill>
                <a:latin typeface="Calibri"/>
              </a:rPr>
              <a:t>These principles, which are usually common to all countries to a certain extent, are of extreme importance when drafting or executing a mutual legal assistance request.</a:t>
            </a:r>
            <a:br>
              <a:rPr sz="1200"/>
            </a:br>
            <a:r>
              <a:rPr b="0" lang="fr-FR" sz="1200" spc="-1" strike="noStrike">
                <a:solidFill>
                  <a:srgbClr val="000000"/>
                </a:solidFill>
                <a:latin typeface="Calibri"/>
              </a:rPr>
              <a:t>The trainer should go through all topics raised by these slides, and complete them if needed with local considerations, in order for the participants to have these principles in mind when participating in the MLA drafing session.</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6EA2C-FEFE-42A1-8AA0-D12795F6A1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lthough treaties and conventions may differ in the various requirements on the content of an MLA request, most of them and most States executing requests on the basis of reciprocity (i.e. outside the framework of a convention or treaty), require the above-mentioned items. </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08060A-BD17-4563-AEE8-12CC9E6B97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place the Budapest convention into the discussion by reminding participants that the Budapest convention is an international instrument providing with a full, applicable chapter on MLA rules to be followed in the absence of other treaties.</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4FFCE1-6D3B-4610-9B90-C82C29D569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role of communication in streamlining the mutual legal assistance request, insisting when necessary on the fact that it does not circumvent the legal channels, but it only aims at facilitating the understanding and the execution of the request which was or will be sent through official channe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A lot of requests in judicial practice still have no email address or information about the languages spoken by the requesting authority.</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86E479-90BB-493A-866F-8A5370A9D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nsists on the importance of the summary of facts, which is a requirement in most of the international treaties and conven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t is one of the most important parts of the requests, as it will determine whether an investigative measure can be ordered in the requested country. These tips appear to be simple but in practice, it is quite obvious that judges and prosecutors should spend more time on the summary of facts having in mind these simple tips, starting with the fact that only THEY know their case in details, not the requested authority which will often have only the MLA request to make its own legal determin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necessity to spend time on the summary of facts which will need be specific, and meet the possible standards of evidence set up in certain States for coercive measures, for inst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C7D7A-5887-4853-AE91-E53C240B37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following two slides contain an example of specific requirements when drafting the summary of facts : the probable cause standard required by the US noticeably when email content is sought. </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4C5F74-1B63-4032-BF23-EF0B25156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FE2793AF-1874-4661-AC56-1057675F8CD3}" type="slidenum">
              <a:rPr b="0" lang="fr-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0AE01C56-8286-4EF6-9C79-3A3FD94E5108}" type="slidenum">
              <a:rPr b="0" lang="fr-CA"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This slide sums up the three different legal standards required by the US when electronic data is sough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The trainer could add up to this slide if he is familiar with the US system or with another example from a different country when possib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However, such presentation should be limited to an objective description of a country’s requirements in the context of the general rules of mutual legal assistance and of the relevant treaties and conventions, as certain countries may have requirements which may indeed circumvent the traditional rules of mutual legal assistance or treaties. The latter is not the subject of this session.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type of measures to be sought, and the legal possibilities for their execu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8D201-D2C7-439A-B474-DB2161D808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s up what documents could or should be attached to the MLA request, subject to other requirements set up by the relevant treaties or conventions.</a:t>
            </a:r>
            <a:br>
              <a:rPr sz="1200"/>
            </a:br>
            <a:br>
              <a:rPr sz="1200"/>
            </a:br>
            <a:r>
              <a:rPr b="0" lang="fr-FR" sz="1200" spc="-1" strike="noStrike">
                <a:solidFill>
                  <a:srgbClr val="000000"/>
                </a:solidFill>
                <a:latin typeface="Calibri"/>
              </a:rPr>
              <a:t>The trainer should enrich this slide with any specific requirement relevant to his geographical area.</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5D2A5-8A2A-461C-A4A0-3DCD7215E9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possibility to send an advanced copy of the official request by any means to the requested countr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fact that this practice can also be used when central authorities are involved in the transmission process, and that when the advanced copy is sent through the official circuit as requested by the convention or treaty, its execution may start earli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mention that is an advanced copy is sent directly to a foreign authority but that the relevant treaty does not allow for it, depending on the requested country, it may not be executed. The advanced copy should therefore follow the transmission channels set up in the relevant treaty or convention for a better resul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The trainer could mention this possibility as set up in article 25.3 of the Budapest convention, described on the following slide.</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5B8EE-248F-4175-BCAB-7F9086A012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produces article 25. 3 of the Budapest convention related to the use of telecommunication means in order to transmit MLA requests more efficiently, thus in cases when electronic evidence is needed and when urgent circumstances could be invoked.</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12F19-3BC7-47E3-B640-D954FABE02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44DE92-D985-475D-83A9-D899E3D98C6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fourth part deals with the reception and execution of an MLA request from a practical matter. This part is short as it is not possible to describe every legal possibility which depends on the applicable treaty or convention as well as on the type of measure requested. This part then only aims at giving advice to participants, in order for them to adopt a perspective turned more toward efficient cooperation, rather than just a legalistic approach, while remaining within the limits of their domestic law and of internation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D43DA-3140-41AC-B0DB-BA32DD0E6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ims at reminding participants of the importance of communication as already explained in the part regarding the drafting of MLA requests.</a:t>
            </a:r>
            <a:br>
              <a:rPr sz="1200"/>
            </a:br>
            <a:r>
              <a:rPr b="0" lang="fr-FR" sz="1200" spc="-1" strike="noStrike">
                <a:solidFill>
                  <a:srgbClr val="000000"/>
                </a:solidFill>
                <a:latin typeface="Calibri"/>
              </a:rPr>
              <a:t>Communication is as important on the part of the receiv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ven when it is not required by law, participants should be encouraged to communicate informally with the requesting authority in order to let them know they will be executed the MLA. This is of importance when a criminal case is ongoing in the requesting State, as the requesting authority may have no news from her request for months, or even years, and may decide at some point to close the case, while the requested authority may be executing the request, or may have been in the obligation to postpone the execution of th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when necessary on the fact that this communication aims at streamlining and enhancing the understanding of the request, and not at circumventing official channels of transmission. </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49BE3-A7EA-4908-B759-A41F12CE1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points at that there are two levels of analysis which the receiver should try to reconcili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gal analysis (form of the request, content of the reques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fficient analysis (if a measure cannot be ordered, does domestic law allow for another legal means to reach the same go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9A3564-CB0B-4AF2-BCBD-3CE4EB177A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gives simple tips to participants to enhance the efficiency approach within their legal framework. </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85E6F-054A-4C80-8B49-1056BDF448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s reproduces part of article 27 of the Budapest Convention which can become a legal basis for MLA in the absence of other applicable treaties and conventions.</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B7612-C1B3-4B54-980D-2C2B363E74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s reproduces part of article 27 of the Budapest Convention which can become a legal basis for MLA in the absence of other applicable treaties and conven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C8203-9119-4E72-9C2F-42C0A0E0F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02975-0EC2-42B9-82A7-56D85B6E36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ED457-6BD7-46C3-B67F-8B171E258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FA4B51-232C-4AF8-8E72-F1652CF20A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goes through the main, common ideas on which mutual legal assistance treaties and conventions re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could usually illustrate by examples drawn from their national system or from a local case which may jave raised legal question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660230-6A21-4AEC-9276-8BB3E6419A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main objectifs of the session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t the end of the session, all participants must have reached the following goal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mprove or refresh their knowledge about general principles related to mutual legal assist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Know how to improve the drafting of their MLA request, and therefore the chances for its exec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dopt a perspective turned more toward efficiency and cooperation between judicial authorities.</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7432B7-413E-41F9-8BC9-832C14C1E20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certain training sessions, a session may be focused on the application of this presentation and on the actual drafting or analysis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iners may in the future seek to supplement to learning by adding exercises, where the training is delivered in an environment where the facilities are suit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specific knowledge check in addition to that listed above is currently envisaged for this course. No official assessment has been requested.</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051782-8254-4839-8D84-69A1DCF4AEDB}"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s a quick reminder of problems raised by cybercrime and electronic evidence in international cases. At this stage of the program, participants should have learned about these issues in details in the Introductory course or in the Advanced Judicial Training course (general present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5D17A-0863-4496-A648-CE4868714E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ims at pointing out some of the main differences between a traditional, « real-life » case and a digital evidence case in the detection of a crime and in the collection of evidenc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could illustrate by giving practical examples, such as, for insta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paring a situation of a bank robbery (time to prepare, time to go to the crime scene, time to get into the bank, time to get the money, time to flee, digital or DNA traces left on the scene, sometimes blood, victims who know they have been the victim of a crime, trauma, police officers and experts knowing where they have to go to collect evidence…etc… vs.  a company learning they have been the victim of a huge data breach at a non-identified time…etc…)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also insist on the fact that territoriality is more and more challenged in cybercrime, contrary to a basic crime which is often easily located within one’s jurisdiction. However, since this session is about mutual legal assistance, which rests mostly on international law (conventions and treaties), it should also be reminded to students that judges and magistrates have to abide by the law and then start to be more creative within the limits of the law (in other words, respect the law but try to analyse it more specifically when it could allow new practices related to the collection of electronic evidence).</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01591-E59D-4BC7-ACD4-34CCDFFFBA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s a summary of the current dilemma detailed in slides 7 and 8 : the need to respect international law vs. The need to be more efficient in cybercrime.</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C5691-2998-479A-9FDA-E4020316C0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329FF-BF8E-422B-B708-6D35A4B36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94EFE-34EE-45EB-8A78-DCB685ACD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72D3E-F076-4919-A75A-C7410B7DF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D6A25-B25C-4DA2-844D-BE7182BED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89514-89F0-40B7-A51E-8AE84192E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68861-2D1F-43DA-892C-65C15851F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8DC78-AA3F-45A1-8984-79A04AD31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8B2E5-C045-46CA-9D3C-E97F99131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3A536-523D-4438-91C3-54A3B2A21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C1838-70EB-421A-901E-4A5D82F34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ACF79-9C82-40CF-8076-F97737615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9D0AE-DF31-4B4D-8FC6-BEBFDA33E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56B66-5801-4B34-9EC2-6B66C9EFB419}"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AD7C4-E35E-4D3C-A86D-349C5FBB85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utual legal assistance requests</a:t>
            </a:r>
            <a:br>
              <a:rPr sz="4400"/>
            </a:br>
            <a:r>
              <a:rPr b="0" lang="en-US" sz="4400" spc="-1" strike="noStrike">
                <a:solidFill>
                  <a:srgbClr val="000000"/>
                </a:solidFill>
                <a:latin typeface="Calibri"/>
              </a:rPr>
              <a:t>Practicaliti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Session #?</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6118F77-D08A-45D7-9B0F-55A30E582B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urrent situation :</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93000"/>
          </a:bodyPr>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MLA channels are not adequate anymore with regard to electronic evidence</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We need to find new ways of cooperation regarding electronic evidence and cybercrime</a:t>
            </a:r>
            <a:endParaRPr b="0" lang="en-US" sz="2400" spc="-1" strike="noStrike">
              <a:solidFill>
                <a:srgbClr val="000000"/>
              </a:solidFill>
              <a:latin typeface="Calibri"/>
            </a:endParaRPr>
          </a:p>
          <a:p>
            <a:pPr marL="318960" indent="-31896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u="sng">
                <a:solidFill>
                  <a:srgbClr val="ff0000"/>
                </a:solidFill>
                <a:uFillTx/>
                <a:latin typeface="Calibri"/>
              </a:rPr>
              <a:t>However:</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 </a:t>
            </a:r>
            <a:r>
              <a:rPr b="0" lang="fr-FR" sz="2400" spc="-1" strike="noStrike">
                <a:solidFill>
                  <a:srgbClr val="000000"/>
                </a:solidFill>
                <a:latin typeface="Calibri"/>
              </a:rPr>
              <a:t>MLA remains the legally accepted, international channel of cooperation </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Practioners then need to make better and full use of MLA possibilities in order to improve their results</a:t>
            </a: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CF894-E11F-464E-950C-F27E197CB3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A4BE81-B326-49E2-B7C6-5CBF9914F7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Two</a:t>
            </a:r>
            <a:br>
              <a:rPr sz="3200"/>
            </a:br>
            <a:r>
              <a:rPr b="1" lang="en-GB" sz="3200" spc="-1" strike="noStrike">
                <a:solidFill>
                  <a:srgbClr val="000000"/>
                </a:solidFill>
                <a:latin typeface="Calibri"/>
                <a:ea typeface="ＭＳ Ｐゴシック"/>
              </a:rPr>
              <a:t>Preparing the MLA request</a:t>
            </a:r>
            <a:endParaRPr b="0" lang="en-US" sz="32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D83AD49-65F3-41B1-9F8E-A5831E5FD1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Before sending an MLA request, these legal alternatives should be checked :</a:t>
            </a:r>
            <a:endParaRPr b="0" lang="en-US" sz="3600" spc="-1" strike="noStrike">
              <a:solidFill>
                <a:srgbClr val="000000"/>
              </a:solidFill>
              <a:latin typeface="Calibri"/>
            </a:endParaRPr>
          </a:p>
        </p:txBody>
      </p:sp>
      <p:sp>
        <p:nvSpPr>
          <p:cNvPr id="86" name=""/>
          <p:cNvSpPr txBox="1"/>
          <p:nvPr/>
        </p:nvSpPr>
        <p:spPr>
          <a:xfrm>
            <a:off x="457200" y="187488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Alternative channels of cooperation </a:t>
            </a:r>
            <a:r>
              <a:rPr b="0" lang="fr-FR" sz="2700" spc="-1" strike="noStrike">
                <a:solidFill>
                  <a:srgbClr val="000000"/>
                </a:solidFill>
                <a:latin typeface="Calibri"/>
              </a:rPr>
              <a:t>(e.g. police-to-police cooperation) : </a:t>
            </a:r>
            <a:endParaRPr b="0" lang="en-US" sz="2700" spc="-1" strike="noStrike">
              <a:solidFill>
                <a:srgbClr val="000000"/>
              </a:solidFill>
              <a:latin typeface="Calibri"/>
            </a:endParaRPr>
          </a:p>
          <a:p>
            <a:pPr marL="343080" indent="-343080"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700" spc="-1" strike="noStrike">
                <a:solidFill>
                  <a:srgbClr val="000000"/>
                </a:solidFill>
                <a:latin typeface="Calibri"/>
              </a:rPr>
              <a:t>Does domestic law authorize it? Does the law of the requested country authorize it?</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Publicly available information </a:t>
            </a:r>
            <a:r>
              <a:rPr b="0" lang="fr-FR" sz="2700" spc="-1" strike="noStrike">
                <a:solidFill>
                  <a:srgbClr val="000000"/>
                </a:solidFill>
                <a:latin typeface="Calibri"/>
              </a:rPr>
              <a:t>which could be obtained without an MLA request through the internet or through specific databases available for free or on a fee  (</a:t>
            </a:r>
            <a:r>
              <a:rPr b="0" i="1" lang="fr-FR" sz="2700" spc="-1" strike="noStrike">
                <a:solidFill>
                  <a:srgbClr val="000000"/>
                </a:solidFill>
                <a:latin typeface="Calibri"/>
              </a:rPr>
              <a:t>if allowed by domestic law)</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000000"/>
                </a:solidFill>
                <a:latin typeface="Calibri"/>
              </a:rPr>
              <a:t>ART. 32 a) of the Budapest convention</a:t>
            </a:r>
            <a:r>
              <a:rPr b="1" lang="en-US" sz="2700" spc="-1" strike="noStrike">
                <a:solidFill>
                  <a:srgbClr val="000000"/>
                </a:solidFill>
                <a:latin typeface="Calibri"/>
              </a:rPr>
              <a:t> </a:t>
            </a:r>
            <a:r>
              <a:rPr b="0" lang="en-US" sz="2700" spc="-1" strike="noStrike">
                <a:solidFill>
                  <a:srgbClr val="000000"/>
                </a:solidFill>
                <a:latin typeface="Calibri"/>
              </a:rPr>
              <a:t>: trans-border access to stored computer data with conse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183C4B9-83AC-4F8F-841A-7F07AAB1BC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7282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Preparing efficiently an MLA request regarding the obtention of electronic evidence?</a:t>
            </a:r>
            <a:endParaRPr b="0" lang="en-US" sz="3600" spc="-1" strike="noStrike">
              <a:solidFill>
                <a:srgbClr val="000000"/>
              </a:solidFill>
              <a:latin typeface="Calibri"/>
            </a:endParaRPr>
          </a:p>
        </p:txBody>
      </p:sp>
      <p:sp>
        <p:nvSpPr>
          <p:cNvPr id="89" name=""/>
          <p:cNvSpPr txBox="1"/>
          <p:nvPr/>
        </p:nvSpPr>
        <p:spPr>
          <a:xfrm>
            <a:off x="212400" y="2788920"/>
            <a:ext cx="8612280" cy="32907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existing networks, liaison magistrates/legal attachés, domestic central authority (for advice), Interpol, Europol, direct contacts, judicial network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ART. 29 of Budapest convention </a:t>
            </a:r>
            <a:r>
              <a:rPr b="0" lang="en-US" sz="2800" spc="-1" strike="noStrike">
                <a:solidFill>
                  <a:srgbClr val="000000"/>
                </a:solidFill>
                <a:latin typeface="Calibri"/>
              </a:rPr>
              <a:t>(expedited  preservation of stored computer data)</a:t>
            </a:r>
            <a:endParaRPr b="0" lang="en-US" sz="28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963D090-CC8B-4CED-8F2B-165F1C8981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EMINDER: </a:t>
            </a:r>
            <a:endParaRPr b="0" lang="en-US" sz="4400" spc="-1" strike="noStrike">
              <a:solidFill>
                <a:srgbClr val="000000"/>
              </a:solidFill>
              <a:latin typeface="Calibri"/>
            </a:endParaRPr>
          </a:p>
        </p:txBody>
      </p:sp>
      <p:graphicFrame>
        <p:nvGraphicFramePr>
          <p:cNvPr id="92" name=""/>
          <p:cNvGraphicFramePr/>
          <p:nvPr/>
        </p:nvGraphicFramePr>
        <p:xfrm>
          <a:off x="457200" y="1254240"/>
          <a:ext cx="8229600" cy="5467320"/>
        </p:xfrm>
        <a:graphic>
          <a:graphicData uri="http://schemas.openxmlformats.org/drawingml/2006/table">
            <a:tbl>
              <a:tblPr/>
              <a:tblGrid>
                <a:gridCol w="4114800"/>
                <a:gridCol w="4114800"/>
              </a:tblGrid>
              <a:tr h="581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35 of the Budapest Con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29 of the Budapest Con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886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35 – 24/7 Network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Each Party </a:t>
                      </a:r>
                      <a:r>
                        <a:rPr b="1" lang="en-US" sz="1100" spc="-1" strike="noStrike" u="sng">
                          <a:solidFill>
                            <a:srgbClr val="000000"/>
                          </a:solidFill>
                          <a:uFillTx/>
                          <a:latin typeface="Calibri"/>
                        </a:rPr>
                        <a:t>shall</a:t>
                      </a:r>
                      <a:r>
                        <a:rPr b="1" lang="en-US" sz="1100" spc="-1" strike="noStrike">
                          <a:solidFill>
                            <a:srgbClr val="000000"/>
                          </a:solidFill>
                          <a:latin typeface="Calibri"/>
                        </a:rPr>
                        <a:t> designate a point of contact available on a twenty-four hour, seven-day-a-week basis</a:t>
                      </a:r>
                      <a:r>
                        <a:rPr b="0" lang="en-US" sz="1100" spc="-1" strike="noStrike">
                          <a:solidFill>
                            <a:srgbClr val="000000"/>
                          </a:solidFill>
                          <a:latin typeface="Calibri"/>
                        </a:rPr>
                        <a:t>, in order to ensure the </a:t>
                      </a:r>
                      <a:r>
                        <a:rPr b="1" lang="en-US" sz="1100" spc="-1" strike="noStrike" u="sng">
                          <a:solidFill>
                            <a:srgbClr val="000000"/>
                          </a:solidFill>
                          <a:uFillTx/>
                          <a:latin typeface="Calibri"/>
                        </a:rPr>
                        <a:t>provision of immediate assistance </a:t>
                      </a:r>
                      <a:r>
                        <a:rPr b="0" lang="en-US" sz="1100" spc="-1" strike="noStrike">
                          <a:solidFill>
                            <a:srgbClr val="000000"/>
                          </a:solidFill>
                          <a:latin typeface="Calibri"/>
                        </a:rPr>
                        <a:t>for the purpose of investigations or proceedings concerning criminal offences related to computer systems and data, or for the collection of evidence in electronic form of a criminal offence. Such assistance shall include facilitating, or, if permitted by its domestic law and practice, directly carrying out the following measure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the provision of technical advic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Calibri"/>
                        </a:rPr>
                        <a:t>B- the preservation of data pursuant to Articles 29 and 30;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 the collection of evidence, the provision of legal information, and locating of suspect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2 A- A Party’s point of contact shall have the capacity to carry out communications with the point of contact of another Party on an expedited basi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 If the point of contact designated by a Party is not part of that Party’s authority or authorities responsible for international mutual assistance or extradition, the point of contact shall ensure that it is able to co-ordinate with such authority or authorities on an expedited basi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Each Party shall ensure that trained and equipped personnel are available, in order to facilitate the operation of the network.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29 – Expedited preservation of stored computer data</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A Party may request another Party to order or otherwise obtain the expeditious preservation of data stored by means of a computer system</a:t>
                      </a:r>
                      <a:r>
                        <a:rPr b="0" lang="en-US" sz="1100" spc="-1" strike="noStrike">
                          <a:solidFill>
                            <a:srgbClr val="000000"/>
                          </a:solidFill>
                          <a:latin typeface="Calibri"/>
                        </a:rPr>
                        <a:t>, located within the territory of that other Party </a:t>
                      </a:r>
                      <a:r>
                        <a:rPr b="0" lang="en-US" sz="1100" spc="-1" strike="noStrike" u="sng">
                          <a:solidFill>
                            <a:srgbClr val="000000"/>
                          </a:solidFill>
                          <a:uFillTx/>
                          <a:latin typeface="Calibri"/>
                        </a:rPr>
                        <a:t>and</a:t>
                      </a:r>
                      <a:r>
                        <a:rPr b="0" lang="en-US" sz="1100" spc="-1" strike="noStrike">
                          <a:solidFill>
                            <a:srgbClr val="000000"/>
                          </a:solidFill>
                          <a:latin typeface="Calibri"/>
                        </a:rPr>
                        <a:t> in respect of </a:t>
                      </a:r>
                      <a:r>
                        <a:rPr b="1" lang="en-US" sz="1100" spc="-1" strike="noStrike">
                          <a:solidFill>
                            <a:srgbClr val="000000"/>
                          </a:solidFill>
                          <a:latin typeface="Calibri"/>
                        </a:rPr>
                        <a:t>which the requesting Party intends to submit a request for mutual assistance for </a:t>
                      </a:r>
                      <a:r>
                        <a:rPr b="0" lang="en-US" sz="1100" spc="-1" strike="noStrike">
                          <a:solidFill>
                            <a:srgbClr val="000000"/>
                          </a:solidFill>
                          <a:latin typeface="Calibri"/>
                        </a:rPr>
                        <a:t>the search or similar access, seizure or similar securing, or disclosure of the data.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Upon receiving the request from another Party, the requested Party shall take all appropriate measures to preserve expeditiously the specified data in accordance with its domestic law. For the purposes of responding to a request, dual criminality shall not be required as a condition to providing such preservation.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 </a:t>
                      </a:r>
                      <a:r>
                        <a:rPr b="1" lang="en-US" sz="1100" spc="-1" strike="noStrike">
                          <a:solidFill>
                            <a:srgbClr val="000000"/>
                          </a:solidFill>
                          <a:latin typeface="Calibri"/>
                        </a:rPr>
                        <a:t>Any preservation effected in response to the request referred to in paragraph 1 shall be for a period </a:t>
                      </a:r>
                      <a:r>
                        <a:rPr b="1" lang="en-US" sz="1100" spc="-1" strike="noStrike" u="sng">
                          <a:solidFill>
                            <a:srgbClr val="000000"/>
                          </a:solidFill>
                          <a:uFillTx/>
                          <a:latin typeface="Calibri"/>
                        </a:rPr>
                        <a:t>not less than sixty days</a:t>
                      </a:r>
                      <a:r>
                        <a:rPr b="0" lang="en-US" sz="1100" spc="-1" strike="noStrike">
                          <a:solidFill>
                            <a:srgbClr val="000000"/>
                          </a:solidFill>
                          <a:latin typeface="Calibri"/>
                        </a:rPr>
                        <a:t>, </a:t>
                      </a:r>
                      <a:r>
                        <a:rPr b="1" lang="en-US" sz="1100" spc="-1" strike="noStrike">
                          <a:solidFill>
                            <a:srgbClr val="000000"/>
                          </a:solidFill>
                          <a:latin typeface="Calibri"/>
                        </a:rPr>
                        <a:t>in order to enable the requesting Party to submit a request</a:t>
                      </a:r>
                      <a:r>
                        <a:rPr b="0" lang="en-US" sz="1100" spc="-1" strike="noStrike">
                          <a:solidFill>
                            <a:srgbClr val="000000"/>
                          </a:solidFill>
                          <a:latin typeface="Calibri"/>
                        </a:rPr>
                        <a:t> for the search or similar access, seizure or similar securing, or disclosure of the data. Following the receipt of such a request, the data shall continue to be preserved pending a decision on that request.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E238401-EEC0-4FF3-A6A3-9F7561807D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Before sending an MLA for the collection of electronic data…</a:t>
            </a:r>
            <a:endParaRPr b="0" lang="en-US" sz="4400" spc="-1" strike="noStrike">
              <a:solidFill>
                <a:srgbClr val="000000"/>
              </a:solidFill>
              <a:latin typeface="Calibri"/>
            </a:endParaRPr>
          </a:p>
        </p:txBody>
      </p:sp>
      <p:sp>
        <p:nvSpPr>
          <p:cNvPr id="95" name=""/>
          <p:cNvSpPr txBox="1"/>
          <p:nvPr/>
        </p:nvSpPr>
        <p:spPr>
          <a:xfrm>
            <a:off x="457200" y="1879200"/>
            <a:ext cx="8229600" cy="459756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f the required country is a Party to the Budapest Convention, </a:t>
            </a:r>
            <a:r>
              <a:rPr b="1" lang="fr-FR" sz="3200" spc="-1" strike="noStrike" u="sng">
                <a:solidFill>
                  <a:srgbClr val="000000"/>
                </a:solidFill>
                <a:uFillTx/>
                <a:latin typeface="Calibri"/>
              </a:rPr>
              <a:t>use article 29</a:t>
            </a:r>
            <a:r>
              <a:rPr b="1" lang="fr-FR" sz="3200" spc="-1" strike="noStrike">
                <a:solidFill>
                  <a:srgbClr val="000000"/>
                </a:solidFill>
                <a:latin typeface="Calibri"/>
              </a:rPr>
              <a:t> </a:t>
            </a:r>
            <a:r>
              <a:rPr b="0" lang="fr-FR" sz="3200" spc="-1" strike="noStrike">
                <a:solidFill>
                  <a:srgbClr val="000000"/>
                </a:solidFill>
                <a:latin typeface="Calibri"/>
              </a:rPr>
              <a:t>and coordinate with the competent, national authorities to request urgent preservation of the data</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447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2400" spc="-1" strike="noStrike">
                <a:solidFill>
                  <a:srgbClr val="000000"/>
                </a:solidFill>
                <a:latin typeface="Wingdings"/>
                <a:ea typeface="Wingdings"/>
              </a:rPr>
              <a:t></a:t>
            </a:r>
            <a:r>
              <a:rPr b="0" i="1" lang="fr-FR" sz="2400" spc="-1" strike="noStrike">
                <a:solidFill>
                  <a:srgbClr val="000000"/>
                </a:solidFill>
                <a:latin typeface="Calibri"/>
              </a:rPr>
              <a:t> </a:t>
            </a:r>
            <a:r>
              <a:rPr b="0" i="1" lang="fr-FR" sz="2400" spc="-1" strike="noStrike">
                <a:solidFill>
                  <a:srgbClr val="000000"/>
                </a:solidFill>
                <a:latin typeface="Calibri"/>
              </a:rPr>
              <a:t>This is useful only if it is done early during the course of the investigations, as not every country imposes on ISPs and other internet service providers an obligation to keep data for a minimum period of time for investigation purposes</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732CDC0-711D-4A22-8152-1915F75CFA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In practice…</a:t>
            </a:r>
            <a:endParaRPr b="0" lang="en-US" sz="4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The designated contact point will contact his counterpart in the target country on a 24/7 basis;</a:t>
            </a:r>
            <a:endParaRPr b="0" lang="en-US" sz="2400" spc="-1" strike="noStrike">
              <a:solidFill>
                <a:srgbClr val="000000"/>
              </a:solidFill>
              <a:latin typeface="Calibri"/>
            </a:endParaRPr>
          </a:p>
          <a:p>
            <a:pPr marL="325800" indent="-32580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r>
              <a:rPr b="0" lang="fr-FR" sz="1800" spc="-1" strike="noStrike">
                <a:solidFill>
                  <a:srgbClr val="000000"/>
                </a:solidFill>
                <a:latin typeface="Calibri"/>
              </a:rPr>
              <a:t>Designated contact points : </a:t>
            </a:r>
            <a:r>
              <a:rPr b="0" lang="fr-FR" sz="1800" spc="-1" strike="noStrike" u="sng">
                <a:solidFill>
                  <a:srgbClr val="0000ff"/>
                </a:solidFill>
                <a:uFillTx/>
                <a:latin typeface="Calibri"/>
                <a:hlinkClick r:id="rId1"/>
              </a:rPr>
              <a:t>http://www.coe.int/en/web/conventions/full-list/-/conventions/treaty/185/declarations?p_auth=r6eUYhF4</a:t>
            </a:r>
            <a:r>
              <a:rPr b="0" lang="fr-FR" sz="1800" spc="-1" strike="noStrike">
                <a:solidFill>
                  <a:srgbClr val="000000"/>
                </a:solidFill>
                <a:latin typeface="Calibri"/>
              </a:rPr>
              <a:t> )</a:t>
            </a:r>
            <a:endParaRPr b="0" lang="en-US" sz="1800" spc="-1" strike="noStrike">
              <a:solidFill>
                <a:srgbClr val="000000"/>
              </a:solidFill>
              <a:latin typeface="Calibri"/>
            </a:endParaRPr>
          </a:p>
          <a:p>
            <a:pPr marL="325800" indent="-32580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t will ask to </a:t>
            </a:r>
            <a:r>
              <a:rPr b="1" lang="fr-FR" sz="2400" spc="-1" strike="noStrike" u="sng">
                <a:solidFill>
                  <a:srgbClr val="000000"/>
                </a:solidFill>
                <a:uFillTx/>
                <a:latin typeface="Calibri"/>
              </a:rPr>
              <a:t>preserve</a:t>
            </a:r>
            <a:r>
              <a:rPr b="0" lang="fr-FR" sz="2400" spc="-1" strike="noStrike">
                <a:solidFill>
                  <a:srgbClr val="000000"/>
                </a:solidFill>
                <a:latin typeface="Calibri"/>
              </a:rPr>
              <a:t> the data needed for the investigation for at least 60 days (sometimes more : e.g. US: 90 days, renewable once)</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During this time, preparing and sending the MLA to </a:t>
            </a:r>
            <a:r>
              <a:rPr b="1" lang="fr-FR" sz="2400" spc="-1" strike="noStrike" u="sng">
                <a:solidFill>
                  <a:srgbClr val="000000"/>
                </a:solidFill>
                <a:uFillTx/>
                <a:latin typeface="Calibri"/>
              </a:rPr>
              <a:t>obtain</a:t>
            </a:r>
            <a:r>
              <a:rPr b="0" lang="fr-FR" sz="2400" spc="-1" strike="noStrike">
                <a:solidFill>
                  <a:srgbClr val="000000"/>
                </a:solidFill>
                <a:latin typeface="Calibri"/>
              </a:rPr>
              <a:t> the data:</a:t>
            </a:r>
            <a:endParaRPr b="0" lang="en-US" sz="24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If data exists, it should have been preserved;</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If probable cause is needed, mention the expedited preservation request (date and number) in the MLA</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FB68877-6A98-461E-84F0-6EAC1FBD07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3920" y="55404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nce it appears that an MLA request should be drafted, what information should be checked?</a:t>
            </a:r>
            <a:br>
              <a:rPr sz="3200"/>
            </a:b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convention should be applied and mentioned in the request?</a:t>
            </a:r>
            <a:endParaRPr b="0" lang="en-US" sz="3000" spc="-1" strike="noStrike">
              <a:solidFill>
                <a:srgbClr val="000000"/>
              </a:solidFill>
              <a:latin typeface="Calibri"/>
            </a:endParaRPr>
          </a:p>
          <a:p>
            <a:pPr marL="339480" indent="-3394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Wingdings"/>
                <a:ea typeface="Wingdings"/>
              </a:rPr>
              <a:t></a:t>
            </a:r>
            <a:r>
              <a:rPr b="0" lang="en-US" sz="3000" spc="-1" strike="noStrike">
                <a:solidFill>
                  <a:srgbClr val="000000"/>
                </a:solidFill>
                <a:latin typeface="Calibri"/>
              </a:rPr>
              <a:t> </a:t>
            </a:r>
            <a:r>
              <a:rPr b="0" lang="en-US" sz="3000" spc="-1" strike="noStrike">
                <a:solidFill>
                  <a:srgbClr val="000000"/>
                </a:solidFill>
                <a:latin typeface="Calibri"/>
              </a:rPr>
              <a:t>Can I mention the Budapest Convention?)</a:t>
            </a:r>
            <a:endParaRPr b="0" lang="en-US" sz="30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u="sng">
                <a:solidFill>
                  <a:srgbClr val="0000ff"/>
                </a:solidFill>
                <a:uFillTx/>
                <a:latin typeface="Calibri"/>
                <a:hlinkClick r:id="rId1"/>
              </a:rPr>
              <a:t>http://www.coe.int/en/web/conventions/full-list/-/conventions/treaty/185</a:t>
            </a:r>
            <a:endParaRPr b="0" lang="en-US" sz="19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specific channels of transmission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translation requirement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content requirements? (e.g. probable cause in the US)</a:t>
            </a:r>
            <a:endParaRPr b="0" lang="en-US" sz="30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AA47905-7492-4A41-B2B6-9E81A1E3DE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at are the possible consequences of not meeting the transmission and drafting requirements?</a:t>
            </a:r>
            <a:endParaRPr b="0" lang="en-US" sz="4000" spc="-1" strike="noStrike">
              <a:solidFill>
                <a:srgbClr val="000000"/>
              </a:solidFill>
              <a:latin typeface="Calibri"/>
            </a:endParaRPr>
          </a:p>
        </p:txBody>
      </p:sp>
      <p:sp>
        <p:nvSpPr>
          <p:cNvPr id="104" name=""/>
          <p:cNvSpPr txBox="1"/>
          <p:nvPr/>
        </p:nvSpPr>
        <p:spPr>
          <a:xfrm>
            <a:off x="436680" y="1660320"/>
            <a:ext cx="8386560" cy="4832280"/>
          </a:xfrm>
          <a:prstGeom prst="rect">
            <a:avLst/>
          </a:prstGeom>
          <a:noFill/>
          <a:ln w="0">
            <a:noFill/>
          </a:ln>
        </p:spPr>
        <p:txBody>
          <a:bodyPr anchor="t">
            <a:normAutofit fontScale="96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The MLA will not be executed, or </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Execution will be delayed and more information will be requested</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Evidence could be non admissible at trial if domestic and international rules are violated</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Electronic evidence is volatile and could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disappear at any time ! (Only 1 chance)</a:t>
            </a:r>
            <a:endParaRPr b="0" lang="en-US" sz="3200" spc="-1" strike="noStrike">
              <a:solidFill>
                <a:srgbClr val="000000"/>
              </a:solidFill>
              <a:latin typeface="Calibri"/>
            </a:endParaRPr>
          </a:p>
        </p:txBody>
      </p:sp>
      <p:sp>
        <p:nvSpPr>
          <p:cNvPr id="105" name="Éclair 3"/>
          <p:cNvSpPr/>
          <p:nvPr/>
        </p:nvSpPr>
        <p:spPr>
          <a:xfrm>
            <a:off x="436680" y="55785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A4AA12-73B5-42D5-A2B5-8366B4094C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One</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100" spc="-1" strike="noStrike">
                <a:solidFill>
                  <a:srgbClr val="000000"/>
                </a:solidFill>
                <a:latin typeface="Calibri"/>
              </a:rPr>
              <a:t>	</a:t>
            </a:r>
            <a:r>
              <a:rPr b="0" lang="fr-FR" sz="2100" spc="-1" strike="noStrike">
                <a:solidFill>
                  <a:srgbClr val="000000"/>
                </a:solidFill>
                <a:latin typeface="Calibri"/>
              </a:rPr>
              <a:t>General principles of mutual legal assistance</a:t>
            </a: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Two</a:t>
            </a:r>
            <a:endParaRPr b="0" lang="en-US" sz="2200" spc="-1" strike="noStrike">
              <a:solidFill>
                <a:srgbClr val="000000"/>
              </a:solidFill>
              <a:latin typeface="Calibri"/>
            </a:endParaRPr>
          </a:p>
          <a:p>
            <a:pPr lvl="1" marL="44784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100" spc="-1" strike="noStrike">
                <a:solidFill>
                  <a:srgbClr val="000000"/>
                </a:solidFill>
                <a:latin typeface="Calibri"/>
              </a:rPr>
              <a:t>Preparing a mutual legal assistance request</a:t>
            </a:r>
            <a:endParaRPr b="0" lang="en-US" sz="21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Thre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rafting an mutual legal assistance request</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Four</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eceiving a mutual legal assistance request</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Five </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ummary</a:t>
            </a:r>
            <a:endParaRPr b="0" lang="en-US" sz="20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0705140-DEA9-4C4D-8CEB-D76200E3EF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10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5C239-B4A3-4637-9157-59C8BDBEEB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Three</a:t>
            </a:r>
            <a:br>
              <a:rPr sz="3200"/>
            </a:br>
            <a:r>
              <a:rPr b="1" lang="en-GB" sz="3200" spc="-1" strike="noStrike">
                <a:solidFill>
                  <a:srgbClr val="000000"/>
                </a:solidFill>
                <a:latin typeface="Calibri"/>
                <a:ea typeface="ＭＳ Ｐゴシック"/>
              </a:rPr>
              <a:t>Drafting the MLA request</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CE20D56-6864-47B5-8BFB-E93D85B5B9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at should an MLA request look like?</a:t>
            </a:r>
            <a:r>
              <a:rPr b="1" lang="fr-FR" sz="4400" spc="-1" strike="noStrike">
                <a:solidFill>
                  <a:srgbClr val="000000"/>
                </a:solidFill>
                <a:latin typeface="Calibri"/>
              </a:rPr>
              <a:t>	</a:t>
            </a:r>
            <a:endParaRPr b="0" lang="en-US" sz="44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ry country and authority can have a different way of presenting an MLA</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No internationally imposed model, except in the US since May 22, 2017</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Regional experiences aiming at using model forms to certain countries or for certain types of requests (e.g. CoE Model forms, UNODC model forms, electronic data requests to the US…)</a:t>
            </a:r>
            <a:endParaRPr b="0" lang="en-US" sz="28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E650DA2-BFFF-48E8-B329-4BB135A43D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Regional examples: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u="sng">
                <a:solidFill>
                  <a:srgbClr val="000000"/>
                </a:solidFill>
                <a:uFillTx/>
                <a:latin typeface="Calibri"/>
              </a:rPr>
              <a:t>The European Un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ince May 22, 2017, EU States are </a:t>
            </a:r>
            <a:r>
              <a:rPr b="0" lang="fr-FR" sz="3200" spc="-1" strike="noStrike" u="sng">
                <a:solidFill>
                  <a:srgbClr val="000000"/>
                </a:solidFill>
                <a:uFillTx/>
                <a:latin typeface="Calibri"/>
              </a:rPr>
              <a:t>required</a:t>
            </a:r>
            <a:r>
              <a:rPr b="0" lang="fr-FR" sz="3200" spc="-1" strike="noStrike">
                <a:solidFill>
                  <a:srgbClr val="000000"/>
                </a:solidFill>
                <a:latin typeface="Calibri"/>
              </a:rPr>
              <a:t> to replace MLA requests by a unique form called European Investigative Order (EIO) for cooperation in criminal matters between Member States (except for joint investigation teams)</a:t>
            </a:r>
            <a:endParaRPr b="0" lang="en-US" sz="32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0475B-0F84-4EF4-BCFC-2B0177F033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The European Investigation Order (since May 2017)</a:t>
            </a:r>
            <a:endParaRPr b="0" lang="en-US" sz="36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One, unique form to fill out between EU countries (except Ireland and Denmark, and except J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pecific deadlines to execute the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pecific reasons to refuse execution of an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Uniformed, high standards to guarantee  citizens’ righ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CD2842-F22F-4C4F-B2C5-C257DCAF6E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odel MLA form by the Council of Europe</a:t>
            </a:r>
            <a:r>
              <a:rPr b="0" lang="fr-FR" sz="4400" spc="-1" strike="noStrike">
                <a:solidFill>
                  <a:srgbClr val="000000"/>
                </a:solidFill>
                <a:latin typeface="Calibri"/>
              </a:rPr>
              <a:t>: </a:t>
            </a:r>
            <a:endParaRPr b="0" lang="en-US" sz="4400" spc="-1" strike="noStrike">
              <a:solidFill>
                <a:srgbClr val="000000"/>
              </a:solidFill>
              <a:latin typeface="Calibri"/>
            </a:endParaRPr>
          </a:p>
        </p:txBody>
      </p:sp>
      <p:sp>
        <p:nvSpPr>
          <p:cNvPr id="123" name=""/>
          <p:cNvSpPr txBox="1"/>
          <p:nvPr/>
        </p:nvSpPr>
        <p:spPr>
          <a:xfrm>
            <a:off x="457200" y="1973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Model request form for mutual assistance in criminal matters adopted by the PC-OC at its 69th meeting in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ntended as a guide and a reference on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Can be adapted to each country and each case</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51F343D-2B09-4428-9E4E-AE09201B16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fontScale="98000"/>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ITLE OF THE REQUES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cedure n°…….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tion of Urgency/Confidentiality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1. REQUESTING AUTHORIT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fficial Titl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dres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ntact details: telephone and fax numbers, e-mail addresse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nguag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2. REQUESTED AUTHORIT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fficial Titl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dres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3. OBJECT AND REASON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Type and purpose of request - Legal basis of the request - Type of offence - Description of the stage of criminal proceeding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Where applicabl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Justification of urgenc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tion of a requirement to be notified about the date/place of the execution of the request as well as on the presence of particular persons with their contact detail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dication on previous involvement of law enforcement officials and their contact detail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formation on previous communications/ MLA requests (including reference number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E14CA-3B8D-40D0-9D93-EC85E74F20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4. PERSONS CONCERNED (primarily suspect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m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de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ity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res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ition in Legal Proceeding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 and available : - ID / Passport Number - Alias  - Date / place of birth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formation on a legal pers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am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 and avail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istration number Address of the se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resses of different branch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tact details of the person authorised to act on behalf of the company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A8041C-6B63-4454-B4B9-4EE341EA47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5000"/>
          </a:bodyPr>
          <a:p>
            <a:pPr marL="434160" indent="-43416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MEASURES REQUESTED </a:t>
            </a:r>
            <a:endParaRPr b="0" lang="en-US" sz="1800" spc="-1" strike="noStrike">
              <a:solidFill>
                <a:srgbClr val="000000"/>
              </a:solidFill>
              <a:latin typeface="Calibri"/>
            </a:endParaRPr>
          </a:p>
          <a:p>
            <a:pPr marL="434160" indent="-43416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4160" indent="-43416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tters rogatory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Calibri"/>
              </a:rPr>
              <a:t>i. Facts and legal information about the offence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ummary of the relevant facts indicating time, place and manner of commission of offenc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gal qualification of the offence with relevant provisions including the range of penalties applicabl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lear description of the links between the offence and the person and between the offence and the evidence /measures/ criminal assets sought in the requested State.’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re applicabl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mage caused by the offenc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formation on victims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re necessary, provisions on lapse of tim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y other additional information which may assist the requested authority in carrying out the request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81DED-67EC-45D0-9B39-A817894847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2040"/>
            <a:ext cx="8229600" cy="4525920"/>
          </a:xfrm>
          <a:prstGeom prst="rect">
            <a:avLst/>
          </a:prstGeom>
          <a:noFill/>
          <a:ln w="0">
            <a:noFill/>
          </a:ln>
        </p:spPr>
        <p:txBody>
          <a:bodyPr anchor="t">
            <a:normAutofit fontScale="7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i. Types of measur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a. Hearing/questioning of witnesses, experts, suspects, accused persons and other persons: specific modaliti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1. Hearing/questioning performed by the requested authority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competent authority which should perform the hear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status of the person to be hear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formation on rights and obligations (for instance hearing under oath/affirmation or the right to be assisted by a lawyer/interpreter) to be notified to the person to be hear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questions to be ask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dication whether the person to be heard requires protection (including details on possible existing agreements between both Parties on this issue)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D48F87-BB61-4F5F-8690-13DB00326B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
          <p:cNvSpPr txBox="1"/>
          <p:nvPr/>
        </p:nvSpPr>
        <p:spPr>
          <a:xfrm>
            <a:off x="457200" y="1417680"/>
            <a:ext cx="8229600" cy="518616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t the end of this session, participants should be able to:</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rove or refresh their knowledge about the general principles of mutual legal assistance</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now how to strengthen the chances of an MLA request to be executed at the drafting stage</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pt an efficiency perspective when receiving an MLA request from a foreign country</a:t>
            </a:r>
            <a:endParaRPr b="0" lang="en-US" sz="32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3D15DD5-C316-4630-AC53-86B6573240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2040"/>
            <a:ext cx="8415360" cy="4525920"/>
          </a:xfrm>
          <a:prstGeom prst="rect">
            <a:avLst/>
          </a:prstGeom>
          <a:noFill/>
          <a:ln w="0">
            <a:noFill/>
          </a:ln>
        </p:spPr>
        <p:txBody>
          <a:bodyPr anchor="t">
            <a:normAutofit fontScale="80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2. Hearing/questioning by video conferenc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reasons why it is not desirable or possible to attend in person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ame of the judicial authority conducting the hearing/question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tails concerning practical arrangements (technical information on available means, proposals concerning payment of costs, contact details for technical contact person, etc.)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tification of rights and obligations of the person to be heard/questione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ates/time propos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necessity for an interpreter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measures to protect the person to be heard/questione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if the suspect or the accused person consents to the hearing/question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questions to be asked </a:t>
            </a:r>
            <a:endParaRPr b="0" lang="en-US" sz="20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E06AE-2816-4754-8A17-F2A936C6A6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50360"/>
            <a:ext cx="8229600" cy="567540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3. Hearing/questioning by telephone conference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tion of the name of the judicial authority or the persons who will be conducting the hearing/questioning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tion that the witness or expert is willing to take part in the hearing/ questioning by telephone conference </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E279B-00FC-4E1F-869F-02886AC4B8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47560" y="414360"/>
            <a:ext cx="8229600" cy="4525920"/>
          </a:xfrm>
          <a:prstGeom prst="rect">
            <a:avLst/>
          </a:prstGeom>
          <a:noFill/>
          <a:ln w="0">
            <a:noFill/>
          </a:ln>
        </p:spPr>
        <p:txBody>
          <a:bodyPr anchor="t">
            <a:normAutofit fontScale="73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b. Obtaining evidenc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1. General measur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dentification of items request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earch and seizur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ype of search: body searches/ house searches/ other premise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s far as possible, precise identification of the person, or premises to be searched (location, interest for property, bank account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entification of documents, records, data, etc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ive details on the links between the person, the foreign proceedings and the requested measures e.g. the place to be searche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py of warrant/ order issued by requesting authorities </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EDFD3-21CB-46B5-9222-2DD78D3C60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82600"/>
            <a:ext cx="8229600" cy="4681440"/>
          </a:xfrm>
          <a:prstGeom prst="rect">
            <a:avLst/>
          </a:prstGeom>
          <a:noFill/>
          <a:ln w="0">
            <a:noFill/>
          </a:ln>
        </p:spPr>
        <p:txBody>
          <a:bodyPr anchor="t">
            <a:normAutofit fontScale="80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2. Specific measur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1.Electronic data  </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rvation of dat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equate information to identify the relevant data to be preserved including its  location (custodian of the stored computer data, location of the computer system)</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rounds to believe that there are risks of loss or modifica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that an MLA request will follow, in view of obtaining the preserved data.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 Search or similar access, seizure or similar securing, or disclosure of dat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pecific purpos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equate information to identify the sought data to be seized, secured or disclosed, including, if known, its physical location and the data controller (custodian of the stored computer data) , technical data necessary to perform such ac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the greatest extent possible, precise identification of the person, or premises to be searched while giving details on the links between the person, data and the place to be search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tact poin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Information on a previous request for the preservation of data </a:t>
            </a:r>
            <a:endParaRPr b="0" lang="en-US" sz="18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3628F0-6F88-41D4-99D0-3689B588BB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4526280"/>
          </a:xfrm>
          <a:prstGeom prst="rect">
            <a:avLst/>
          </a:prstGeom>
          <a:noFill/>
          <a:ln w="0">
            <a:noFill/>
          </a:ln>
        </p:spPr>
        <p:txBody>
          <a:bodyPr anchor="t">
            <a:normAutofit fontScale="7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2. Seizure and/or confiscation of criminal asset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asons to believe that assets are located in the requested Stat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of the procedures the requesting State wishes to follow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that the measure sought or any other similar measures can be taken in the territory of the requesting State under its national law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achments: true copy of seizure or/confiscation order and statement of grounds for order; and, where applicable attestation that confiscation is enforce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tion relating to bank accounts in the requested Stat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here ap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confiscation takes the form of a requirement to pay a sum of money corresponding to the value of the assets, give information on the maximum value of the assets to be seiz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achment of documents proving that third parties had the opportunity to claim rights - Information on similar requests sent to other Stat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Information on earlier requests for obtaining evidence / for restraining assets or seizing objects connected with the present request (name of the defendant / sentenced person) -  Restitution: indication of items/articles obtained by criminal means which should be at the disposal of the requesting State to be returned to their rightful owner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63FE2-2FBC-484D-B5AB-224A264C81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47680"/>
            <a:ext cx="8229600" cy="5686560"/>
          </a:xfrm>
          <a:prstGeom prst="rect">
            <a:avLst/>
          </a:prstGeom>
          <a:noFill/>
          <a:ln w="0">
            <a:noFill/>
          </a:ln>
        </p:spPr>
        <p:txBody>
          <a:bodyPr anchor="t">
            <a:normAutofit fontScale="90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c. Obtaining information from financial institution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etails of the financial institution (name of the bank or financial institution, address of branch where the account is hel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ccount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period for which the information is requested - Reasons to believe that the account is held in the requested Stat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d. Obtaining telephone/IP da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1. Information concerning telephone da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telephone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tion concerning the holder of the telephone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period  for which the telephone data are requir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2. Information concerning IP da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IP address, which user’s identification is sought (when the IP Adress is known), of the time-stamp (day and time of the use), and of the name of the ISP   - Indication of the name and address of the suspect (when he/she is known, but the concrete user’s IP Address is not known)and, if known, the date and time of use and the name of the IS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For extended traffic data, information on the sought period, for which the IP address was used </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4798D-EBD7-4A41-BD95-29B27C1E74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2240"/>
            <a:ext cx="8578800" cy="5798880"/>
          </a:xfrm>
          <a:prstGeom prst="rect">
            <a:avLst/>
          </a:prstGeom>
          <a:noFill/>
          <a:ln w="0">
            <a:noFill/>
          </a:ln>
        </p:spPr>
        <p:txBody>
          <a:bodyPr anchor="t">
            <a:normAutofit fontScale="8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e. Conducting of Expertis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formation on the expertise sough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List of questions to be answered by the exper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f. Interception of communication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ny relevant information on the status of the person and on the link between the measure and the ongoing investigation relating to legal requirements of the requesting Stat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 Information on the time-fram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g. Special investigation technique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ross-border observations: see Appendix 1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trolled delivery: see Appendix 2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vert investigations: see Appendix 3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Joint investigation teams: see Appendix 4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DD5C12-8516-4902-A362-B34B5CF8A2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ii. Specific modalities of executi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here ap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cessary formalities and procedures under the law of the requesting State and guidanc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nce of officials and other relevant persons involved from the requesting State and the name and title of such person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quest to conduct the hearing/questioning by official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ime frame for execu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ordination between relevant and competent authorities (contact person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sts (see explanation in  the guidelin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nguage to be used - Indication of requirements to keep the  existence and substance of the request confidential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of rules to ensure data protecti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v. Modalities for the transmission of evidenc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whether originals are need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ferred means of transmission to be used by the requested State (courier, liaison officer, diplomatic representative, etc.)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vance copies</a:t>
            </a:r>
            <a:endParaRPr b="0" lang="en-US" sz="18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DD6157-8D93-44B0-AD1F-8727C27D8A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5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B. Service of judicial documents (writs and records; summons to appear as a witness/expert/ accused person):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 Information common to all requests of servi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ype of service require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pecification of documents to be serv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tion on witness protectio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afe passage issu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rements for confirmation of servi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rements if service fail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proval of assumption of cost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i. Information required for summons to appea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te of appearan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me and place of hearing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ternative date of appearance, time and place of hearing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proximate allowances payable and the travelling and subsistence expenses refund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isa or other entry requirement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09C4F8-719F-4747-943F-6CCAAF643F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fontScale="98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 Temporary transfer of a person in custody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ype of transfer: to the requesting or the requested Stat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posed dates for transfer and retur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lace of transf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urpose of transfer (e.g. witness, confrontation)</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tement of consent of the person concern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firmation that the person concerned will remain in custody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whether transit is require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tact person(s)responsible for the transfer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 Extracts from judicial record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Identification of the person whose judicial record is request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 Indication whether the request is made in a non-criminal contex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 </a:t>
            </a:r>
            <a:r>
              <a:rPr b="1" lang="en-US" sz="1600" spc="-1" strike="noStrike">
                <a:solidFill>
                  <a:srgbClr val="000000"/>
                </a:solidFill>
                <a:latin typeface="Calibri"/>
              </a:rPr>
              <a:t>FINAL INFORMATIO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y other information which the requesting State considers important - Contact person (name, contact details, language) - List of enclosur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al, name, function of the official, date, and signature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5BC1E7-A771-4A39-A7B2-E9EB4C87F7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One</a:t>
            </a:r>
            <a:br>
              <a:rPr sz="3200"/>
            </a:br>
            <a:r>
              <a:rPr b="1" lang="en-GB" sz="3200" spc="-1" strike="noStrike">
                <a:solidFill>
                  <a:srgbClr val="000000"/>
                </a:solidFill>
                <a:latin typeface="Calibri"/>
                <a:ea typeface="ＭＳ Ｐゴシック"/>
              </a:rPr>
              <a:t>General principles of mutual legal assistance</a:t>
            </a:r>
            <a:endParaRPr b="0" lang="en-US" sz="32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2721E5-8E50-42F7-9B8D-0BEAF29FF7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Frequent, common requirements (with or without a treaty) include: </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ame, function, seal, and signature of requesting authorit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gal basis for the request   (international treaty/Convention, or reciprocity)</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gal framework in the requesting State (name of suspects, legal qualifications of offences and relevant provisions, including penal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ummary of fact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pecific measures sough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113BB-6BC5-42A1-BBED-8222D0A207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Legal basis of the MLA request</a:t>
            </a:r>
            <a:endParaRPr b="0" lang="en-US" sz="4400" spc="-1" strike="noStrike">
              <a:solidFill>
                <a:srgbClr val="000000"/>
              </a:solidFill>
              <a:latin typeface="Calibri"/>
            </a:endParaRPr>
          </a:p>
        </p:txBody>
      </p:sp>
      <p:sp>
        <p:nvSpPr>
          <p:cNvPr id="157" name=""/>
          <p:cNvSpPr txBox="1"/>
          <p:nvPr/>
        </p:nvSpPr>
        <p:spPr>
          <a:xfrm>
            <a:off x="457200" y="1471320"/>
            <a:ext cx="8229600" cy="495756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s other bilateral or multilateral treaties and conventions, </a:t>
            </a:r>
            <a:r>
              <a:rPr b="1" lang="fr-FR" sz="2800" spc="-1" strike="noStrike" u="sng">
                <a:solidFill>
                  <a:srgbClr val="000000"/>
                </a:solidFill>
                <a:uFillTx/>
                <a:latin typeface="Calibri"/>
              </a:rPr>
              <a:t>the Budapest convention </a:t>
            </a:r>
            <a:r>
              <a:rPr b="1" lang="fr-FR" sz="2800" spc="-1" strike="noStrike">
                <a:solidFill>
                  <a:srgbClr val="000000"/>
                </a:solidFill>
                <a:latin typeface="Calibri"/>
              </a:rPr>
              <a:t>can be used as a legal basis for MLA requests regarding cybercrime as well as for collecting evidence in any criminal case</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5880" indent="-335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2400" spc="-1" strike="noStrike">
                <a:solidFill>
                  <a:srgbClr val="000000"/>
                </a:solidFill>
                <a:latin typeface="Calibri"/>
              </a:rPr>
              <a:t>ART. 25.1 of the Budapest Convention:</a:t>
            </a:r>
            <a:endParaRPr b="0" lang="en-US" sz="24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Where there is no mutual assistance treaty or arrangement on the basis of uniform or reciprocal legislation in force between the requesting and requested Parties, the provisions of paragraphs 2 through 9 of this article shall apply. The provisions of this article shall not apply where such treaty, arrangement or legislation exists, unless the Parties concerned agree to apply any or all of the remainder of this article in lieu thereof.</a:t>
            </a:r>
            <a:endParaRPr b="0" lang="en-US" sz="20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55A996B-25A3-476F-85DC-E3313AC494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on is as important as the request itself: </a:t>
            </a:r>
            <a:br>
              <a:rPr sz="4400"/>
            </a:br>
            <a:endParaRPr b="0" lang="en-US" sz="44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Name and title mentionned </a:t>
            </a:r>
            <a:r>
              <a:rPr b="0" lang="fr-FR" sz="2400" spc="-1" strike="noStrike" u="sng">
                <a:solidFill>
                  <a:srgbClr val="000000"/>
                </a:solidFill>
                <a:uFillTx/>
                <a:latin typeface="Calibri"/>
              </a:rPr>
              <a:t>clearly</a:t>
            </a:r>
            <a:r>
              <a:rPr b="0" lang="fr-FR" sz="2400" spc="-1" strike="noStrike">
                <a:solidFill>
                  <a:srgbClr val="000000"/>
                </a:solidFill>
                <a:latin typeface="Calibri"/>
              </a:rPr>
              <a:t> (not just your signature and se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ontact information (email address, phone number, time zone…) to be reach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nguages spoken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Wingdings"/>
                <a:ea typeface="Wingdings"/>
              </a:rPr>
              <a:t></a:t>
            </a:r>
            <a:r>
              <a:rPr b="0" lang="fr-FR" sz="2400" spc="-1" strike="noStrike">
                <a:solidFill>
                  <a:srgbClr val="000000"/>
                </a:solidFill>
                <a:latin typeface="Calibri"/>
              </a:rPr>
              <a:t> </a:t>
            </a:r>
            <a:r>
              <a:rPr b="0" lang="fr-FR" sz="2400" spc="-1" strike="noStrike">
                <a:solidFill>
                  <a:srgbClr val="000000"/>
                </a:solidFill>
                <a:latin typeface="Calibri"/>
              </a:rPr>
              <a:t>If the executing authority has a question or problem, and does not understand your expectations, you will be able to give a clear and quick answer, while avoiding drafting a whole new MLA request</a:t>
            </a: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EF2A009-0702-4706-820C-EBE2372512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ummary of facts</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Always keep in mind the requested authority does not know your case while explaining the facts and investigations needed</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ever write in a too conclusive manner </a:t>
            </a:r>
            <a:r>
              <a:rPr b="0" i="1" lang="fr-FR" sz="2000" spc="-1" strike="noStrike">
                <a:solidFill>
                  <a:srgbClr val="000000"/>
                </a:solidFill>
                <a:latin typeface="Calibri"/>
              </a:rPr>
              <a:t>(e.g. « investigations to the identification of Mr. X » : explain). </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ome States will easily execute almost everything you as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ome States will even make a dual criminality check for certain types of investigations (or if no treaty/convention applies)</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ome States will request complementary elements in order to undertake coercive measures (e.g. probable cause in the US, certificate in Hong Kong)</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FC6307C-9F1B-4B6F-A784-39BA828EC6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Some States will demand specific, content information:</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Example of the « probable cause » standard in the US: </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Trebuchet MS"/>
              </a:rPr>
              <a:t>« A </a:t>
            </a:r>
            <a:r>
              <a:rPr b="1" i="1" lang="fr-FR" sz="2000" spc="-1" strike="noStrike">
                <a:solidFill>
                  <a:srgbClr val="000000"/>
                </a:solidFill>
                <a:latin typeface="Trebuchet MS"/>
              </a:rPr>
              <a:t>reasonable ground </a:t>
            </a:r>
            <a:r>
              <a:rPr b="0" i="1" lang="fr-FR" sz="2000" spc="-1" strike="noStrike">
                <a:solidFill>
                  <a:srgbClr val="000000"/>
                </a:solidFill>
                <a:latin typeface="Trebuchet MS"/>
              </a:rPr>
              <a:t>to suspect that </a:t>
            </a:r>
            <a:r>
              <a:rPr b="1" i="1" lang="fr-FR" sz="2000" spc="-1" strike="noStrike" u="sng">
                <a:solidFill>
                  <a:srgbClr val="000000"/>
                </a:solidFill>
                <a:uFillTx/>
                <a:latin typeface="Trebuchet MS"/>
              </a:rPr>
              <a:t>a person has committed or is committing a crime or that a place contains specific items connected with a crime » </a:t>
            </a:r>
            <a:r>
              <a:rPr b="0" i="1" lang="fr-FR" sz="2000" spc="-1" strike="noStrike">
                <a:solidFill>
                  <a:srgbClr val="000000"/>
                </a:solidFill>
                <a:latin typeface="Trebuchet MS"/>
              </a:rPr>
              <a:t>(Black’s law dictionary)</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The MLA request </a:t>
            </a:r>
            <a:r>
              <a:rPr b="1" lang="fr-FR" sz="2000" spc="-1" strike="noStrike" u="sng">
                <a:solidFill>
                  <a:srgbClr val="000000"/>
                </a:solidFill>
                <a:uFillTx/>
                <a:latin typeface="Calibri"/>
              </a:rPr>
              <a:t>must</a:t>
            </a:r>
            <a:r>
              <a:rPr b="1" lang="fr-FR" sz="2000" spc="-1" strike="noStrike">
                <a:solidFill>
                  <a:srgbClr val="000000"/>
                </a:solidFill>
                <a:latin typeface="Calibri"/>
              </a:rPr>
              <a:t> provide with the following information:</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type of data to be seize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reason why it relates to the criminal offense being investigated (link with the alleged perpetrator and with the crime)</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data is likely to be currently where the search will be done (do not forget to mention any previous preservation request made under the Budapest convention!)</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52806-80F3-4BDE-B07B-227D44C920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863640">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d0d0d"/>
                          </a:solidFill>
                          <a:latin typeface="Book Antiqua"/>
                          <a:ea typeface="MS Gothic"/>
                        </a:rPr>
                        <a:t>TYPE OF DATA REQUES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d0d0d"/>
                          </a:solidFill>
                          <a:latin typeface="Book Antiqua"/>
                          <a:ea typeface="MS Gothic"/>
                        </a:rPr>
                        <a:t> </a:t>
                      </a:r>
                      <a:r>
                        <a:rPr b="1" lang="fr-FR" sz="1800" spc="-1" strike="noStrike">
                          <a:solidFill>
                            <a:srgbClr val="0d0d0d"/>
                          </a:solidFill>
                          <a:latin typeface="Book Antiqua"/>
                          <a:ea typeface="MS Gothic"/>
                        </a:rPr>
                        <a:t>US LEGAL STANDA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7488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Subscriber infor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relevance</a:t>
                      </a:r>
                      <a:r>
                        <a:rPr b="0" lang="fr-FR" sz="1800" spc="-1" strike="noStrike">
                          <a:solidFill>
                            <a:srgbClr val="000000"/>
                          </a:solidFill>
                          <a:latin typeface="Book Antiqua"/>
                          <a:ea typeface="MS Gothic"/>
                        </a:rPr>
                        <a:t> »  and « relation » between evidence sought and the criminal investi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24596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Transactional infor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Between « </a:t>
                      </a:r>
                      <a:r>
                        <a:rPr b="0" i="1" lang="fr-FR" sz="1800" spc="-1" strike="noStrike">
                          <a:solidFill>
                            <a:srgbClr val="000000"/>
                          </a:solidFill>
                          <a:latin typeface="Book Antiqua"/>
                          <a:ea typeface="MS Gothic"/>
                        </a:rPr>
                        <a:t>relevance</a:t>
                      </a:r>
                      <a:r>
                        <a:rPr b="0" lang="fr-FR" sz="1800" spc="-1" strike="noStrike">
                          <a:solidFill>
                            <a:srgbClr val="000000"/>
                          </a:solidFill>
                          <a:latin typeface="Book Antiqua"/>
                          <a:ea typeface="MS Gothic"/>
                        </a:rPr>
                        <a:t> » et « </a:t>
                      </a:r>
                      <a:r>
                        <a:rPr b="0" i="1" lang="fr-FR" sz="1800" spc="-1" strike="noStrike">
                          <a:solidFill>
                            <a:srgbClr val="000000"/>
                          </a:solidFill>
                          <a:latin typeface="Book Antiqua"/>
                          <a:ea typeface="MS Gothic"/>
                        </a:rPr>
                        <a:t>probable cause</a:t>
                      </a:r>
                      <a:r>
                        <a:rPr b="0" lang="fr-FR" sz="1800" spc="-1" strike="noStrike">
                          <a:solidFill>
                            <a:srgbClr val="000000"/>
                          </a:solidFill>
                          <a:latin typeface="Book Antiqua"/>
                          <a:ea typeface="MS Gothic"/>
                        </a:rPr>
                        <a:t> » : data must be  relevant and material to the criminal investi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164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probable cause</a:t>
                      </a:r>
                      <a:r>
                        <a:rPr b="0" lang="fr-FR" sz="1800" spc="-1" strike="noStrike">
                          <a:solidFill>
                            <a:srgbClr val="000000"/>
                          </a:solidFill>
                          <a:latin typeface="Book Antiqua"/>
                          <a:ea typeface="MS Gothic"/>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ea typeface="Arial"/>
              </a:rPr>
              <a:t>LEGAL U.S. STANDARDS TO BE MET IN THE SUMMARY OF FACTS: </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ECB52B-DA1F-476E-8DD6-A0255E408A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easures requested in the MLA</a:t>
            </a:r>
            <a:endParaRPr b="0" lang="en-US" sz="4400" spc="-1" strike="noStrike">
              <a:solidFill>
                <a:srgbClr val="000000"/>
              </a:solidFill>
              <a:latin typeface="Calibri"/>
            </a:endParaRPr>
          </a:p>
        </p:txBody>
      </p:sp>
      <p:sp>
        <p:nvSpPr>
          <p:cNvPr id="173" name=""/>
          <p:cNvSpPr txBox="1"/>
          <p:nvPr/>
        </p:nvSpPr>
        <p:spPr>
          <a:xfrm>
            <a:off x="140760" y="898560"/>
            <a:ext cx="8842680" cy="5330880"/>
          </a:xfrm>
          <a:prstGeom prst="rect">
            <a:avLst/>
          </a:prstGeom>
          <a:noFill/>
          <a:ln w="0">
            <a:noFill/>
          </a:ln>
        </p:spPr>
        <p:txBody>
          <a:bodyPr anchor="t">
            <a:normAutofit fontScale="89000"/>
          </a:bodyPr>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Ask for all measures which could be ordered in your legal system and which seem useful to your criminal case</a:t>
            </a:r>
            <a:endParaRPr b="0" lang="en-US" sz="2400" spc="-1" strike="noStrike">
              <a:solidFill>
                <a:srgbClr val="000000"/>
              </a:solidFill>
              <a:latin typeface="Calibri"/>
            </a:endParaRPr>
          </a:p>
          <a:p>
            <a:pPr marL="305280" indent="-3052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Mention confidentiality if needed : it is NOT a principle in all States </a:t>
            </a:r>
            <a:r>
              <a:rPr b="0" lang="fr-FR" sz="2000" spc="-1" strike="noStrike">
                <a:solidFill>
                  <a:srgbClr val="000000"/>
                </a:solidFill>
                <a:latin typeface="Calibri"/>
              </a:rPr>
              <a:t>(</a:t>
            </a:r>
            <a:r>
              <a:rPr b="0" i="1" lang="fr-FR" sz="1800" spc="-1" strike="noStrike">
                <a:solidFill>
                  <a:srgbClr val="000000"/>
                </a:solidFill>
                <a:latin typeface="Calibri"/>
              </a:rPr>
              <a:t>E.g. : the USA) – NB: ART. 28 of the Budapest Convention</a:t>
            </a:r>
            <a:endParaRPr b="0" lang="en-US" sz="18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pecify any urgency </a:t>
            </a:r>
            <a:r>
              <a:rPr b="0" i="1" lang="fr-FR" sz="1800" spc="-1" strike="noStrike">
                <a:solidFill>
                  <a:srgbClr val="000000"/>
                </a:solidFill>
                <a:latin typeface="Calibri"/>
              </a:rPr>
              <a:t>(e.g. : pre-trial detention, specific deadlines…)</a:t>
            </a:r>
            <a:endParaRPr b="0" lang="en-US" sz="1800" spc="-1" strike="noStrike">
              <a:solidFill>
                <a:srgbClr val="000000"/>
              </a:solidFill>
              <a:latin typeface="Calibri"/>
            </a:endParaRPr>
          </a:p>
          <a:p>
            <a:pPr lvl="1" marL="660960" indent="-25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Be as specific as possible</a:t>
            </a:r>
            <a:endParaRPr b="0" lang="en-US" sz="2400" spc="-1" strike="noStrike">
              <a:solidFill>
                <a:srgbClr val="000000"/>
              </a:solidFill>
              <a:latin typeface="Calibri"/>
            </a:endParaRPr>
          </a:p>
          <a:p>
            <a:pPr lvl="1" marL="660960" indent="-25416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 E.g. :  specify place to be searched, what data is sougt, specify the dates and time of a IP address to be identified (time and date stamp)</a:t>
            </a:r>
            <a:endParaRPr b="0" lang="en-US" sz="1800" spc="-1" strike="noStrike">
              <a:solidFill>
                <a:srgbClr val="000000"/>
              </a:solidFill>
              <a:latin typeface="Calibri"/>
            </a:endParaRPr>
          </a:p>
          <a:p>
            <a:pPr lvl="1" marL="660960" indent="-25416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pecify any particular procedure </a:t>
            </a:r>
            <a:r>
              <a:rPr b="0" lang="fr-FR" sz="2400" spc="-1" strike="noStrike">
                <a:solidFill>
                  <a:srgbClr val="000000"/>
                </a:solidFill>
                <a:latin typeface="Calibri"/>
              </a:rPr>
              <a:t>which should be implemented for the regularity of the measure sougt  - otherwise, the requested State will execute the MLA according to its own national law </a:t>
            </a:r>
            <a:endParaRPr b="0" lang="en-US" sz="2400" spc="-1" strike="noStrike">
              <a:solidFill>
                <a:srgbClr val="000000"/>
              </a:solidFill>
              <a:latin typeface="Calibri"/>
            </a:endParaRPr>
          </a:p>
          <a:p>
            <a:pPr lvl="1" marL="660960" indent="-25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E.g. : witness to take a specific oath, type of copy and protection needed for electronic data or device)</a:t>
            </a:r>
            <a:endParaRPr b="0" lang="en-US" sz="1800" spc="-1" strike="noStrike">
              <a:solidFill>
                <a:srgbClr val="000000"/>
              </a:solidFill>
              <a:latin typeface="Calibri"/>
            </a:endParaRPr>
          </a:p>
          <a:p>
            <a:pPr marL="305280" indent="-3052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36C695-698A-44EB-A22E-BA8C67A9B8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78000"/>
            <a:ext cx="8842320" cy="58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What </a:t>
            </a:r>
            <a:r>
              <a:rPr b="1" lang="fr-FR" sz="3200" spc="-1" strike="noStrike">
                <a:solidFill>
                  <a:srgbClr val="000000"/>
                </a:solidFill>
                <a:latin typeface="Calibri"/>
              </a:rPr>
              <a:t>should/could</a:t>
            </a:r>
            <a:r>
              <a:rPr b="1" lang="fr-FR" sz="3600" spc="-1" strike="noStrike">
                <a:solidFill>
                  <a:srgbClr val="000000"/>
                </a:solidFill>
                <a:latin typeface="Calibri"/>
              </a:rPr>
              <a:t> be attached to the MLA:</a:t>
            </a:r>
            <a:endParaRPr b="0" lang="en-US" sz="3600" spc="-1" strike="noStrike">
              <a:solidFill>
                <a:srgbClr val="000000"/>
              </a:solidFill>
              <a:latin typeface="Calibri"/>
            </a:endParaRPr>
          </a:p>
        </p:txBody>
      </p:sp>
      <p:sp>
        <p:nvSpPr>
          <p:cNvPr id="176" name=""/>
          <p:cNvSpPr txBox="1"/>
          <p:nvPr/>
        </p:nvSpPr>
        <p:spPr>
          <a:xfrm>
            <a:off x="122400" y="1406520"/>
            <a:ext cx="8842320" cy="53150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What SHOULD be attached:</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Anything required by the applicable convention or treaty (including generally identity and function of the requesting authority, summary of facts, and legal qualifications and legal provisions and provisions regarding the incurred penalty), </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ometimes conventions or treaties require a list of questions for interviews</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ranslation when required (including of the attached documents and provisions)</a:t>
            </a:r>
            <a:endParaRPr b="0" lang="en-US" sz="2000" spc="-1" strike="noStrike">
              <a:solidFill>
                <a:srgbClr val="000000"/>
              </a:solidFill>
              <a:latin typeface="Calibri"/>
            </a:endParaRPr>
          </a:p>
          <a:p>
            <a:pPr lvl="1" marL="735480" indent="-28296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What COULD be attached:</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Anything useful for the requested authority to understand what is sought (E.g. copies of fake banking orders, interviews, suspicious emails…)</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omestic production order or search warrant if any  (not always required)</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omestic law provisions regarding specific powers </a:t>
            </a:r>
            <a:r>
              <a:rPr b="0" i="1" lang="fr-FR" sz="1800" spc="-1" strike="noStrike">
                <a:solidFill>
                  <a:srgbClr val="000000"/>
                </a:solidFill>
                <a:latin typeface="Calibri"/>
              </a:rPr>
              <a:t>(e.g. investigating judge which is not always well known in certain countries)</a:t>
            </a:r>
            <a:endParaRPr b="0" lang="en-US" sz="1800" spc="-1" strike="noStrike">
              <a:solidFill>
                <a:srgbClr val="000000"/>
              </a:solidFill>
              <a:latin typeface="Calibri"/>
            </a:endParaRPr>
          </a:p>
          <a:p>
            <a:pPr lvl="1" marL="735480" indent="-2829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C88316C-D005-4A91-994C-72C6A03CFE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Swift ways to transmit an MLA request:</a:t>
            </a:r>
            <a:endParaRPr b="0" lang="en-US" sz="40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n when the original request is necessary, most conventions or treaties have a specific transmission procedure for urgent matter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 common good practice especially for collecting electronic evidence is the use of advance copies by emails, directly between judicial authorities or between central authoritie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ART. 25.3 of the Budapest convention</a:t>
            </a:r>
            <a:endParaRPr b="0" lang="en-US" sz="24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D90B240-B5CC-4B30-BCB3-215E83B0A5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5.3 of the Budapest Convention</a:t>
            </a:r>
            <a:endParaRPr b="0" lang="en-US" sz="4400" spc="-1" strike="noStrike">
              <a:solidFill>
                <a:srgbClr val="000000"/>
              </a:solidFill>
              <a:latin typeface="Calibri"/>
            </a:endParaRPr>
          </a:p>
        </p:txBody>
      </p:sp>
      <p:sp>
        <p:nvSpPr>
          <p:cNvPr id="182"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ach Party may, in urgent circumstances, make requests for mutual assistance or communications related thereto by expedited means of communication, including fax or email, to the extent that such means provide appropriate levels of security and authentication (including the use of encryption, where necessary), with formal confirmation to follow, where required by the requested Party. The requested Party shall accept and respond to the request by any such expedited means of communication.</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66355-04D2-4DCD-8A83-984D4626F1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How to define international judicial legal assistance?</a:t>
            </a:r>
            <a:endParaRPr b="0" lang="en-US" sz="4400" spc="-1" strike="noStrike">
              <a:solidFill>
                <a:srgbClr val="000000"/>
              </a:solidFill>
              <a:latin typeface="Calibri"/>
            </a:endParaRPr>
          </a:p>
        </p:txBody>
      </p:sp>
      <p:sp>
        <p:nvSpPr>
          <p:cNvPr id="62" name=""/>
          <p:cNvSpPr txBox="1"/>
          <p:nvPr/>
        </p:nvSpPr>
        <p:spPr>
          <a:xfrm>
            <a:off x="457200" y="1839600"/>
            <a:ext cx="822960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No international, unique deci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pends on each country’s legal frame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hould be distinguished from police cooperation, although complementary</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It could be defined as any legal means aiming at reaching a person, an information, a document, or any piece of evidence necessary to a  judicial case and which is out of reach, because it is located in another country, under the authority of another State.</a:t>
            </a:r>
            <a:endParaRPr b="0" lang="en-US" sz="24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117C393-00D8-4C5E-9491-4BEC83B6D9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18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BC2C34-5CE2-4993-8B86-7D27A534C1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Four</a:t>
            </a:r>
            <a:br>
              <a:rPr sz="3200"/>
            </a:br>
            <a:r>
              <a:rPr b="1" lang="en-GB" sz="3200" spc="-1" strike="noStrike">
                <a:solidFill>
                  <a:srgbClr val="000000"/>
                </a:solidFill>
                <a:latin typeface="Calibri"/>
                <a:ea typeface="ＭＳ Ｐゴシック"/>
              </a:rPr>
              <a:t>Receiving an MLA request</a:t>
            </a: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E04F1CF-96A2-4153-BAB4-CC75D1EC5A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101880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Good practice when receiving an MLA request for execution : </a:t>
            </a:r>
            <a:br>
              <a:rPr sz="4400"/>
            </a:br>
            <a:r>
              <a:rPr b="1" lang="fr-FR" sz="4400" spc="-1" strike="noStrike">
                <a:solidFill>
                  <a:srgbClr val="000000"/>
                </a:solidFill>
                <a:latin typeface="Calibri"/>
              </a:rPr>
              <a:t>acknowledge receipt</a:t>
            </a:r>
            <a:br>
              <a:rPr sz="4400"/>
            </a:br>
            <a:endParaRPr b="0" lang="en-US" sz="4400" spc="-1" strike="noStrike">
              <a:solidFill>
                <a:srgbClr val="000000"/>
              </a:solidFill>
              <a:latin typeface="Calibri"/>
            </a:endParaRPr>
          </a:p>
        </p:txBody>
      </p:sp>
      <p:sp>
        <p:nvSpPr>
          <p:cNvPr id="191" name=""/>
          <p:cNvSpPr txBox="1"/>
          <p:nvPr/>
        </p:nvSpPr>
        <p:spPr>
          <a:xfrm>
            <a:off x="456840" y="2176200"/>
            <a:ext cx="8348760" cy="4336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ven if it is not required by one’s national law, good practice is to keep the requesting authority informed that you will be in charge of the execution (e.g. email communication when poss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n certain situations, it is a requirement (e.g. EIO within the EU</a:t>
            </a:r>
            <a:endParaRPr b="0" lang="en-US" sz="32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4268D03-123B-4FC8-99B8-65B045CA1E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000" y="27432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en analysing the MLA request for execution :</a:t>
            </a:r>
            <a:endParaRPr b="0" lang="en-US" sz="44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of the relevant convention/treaty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r>
              <a:rPr b="0" lang="fr-FR" sz="2800" spc="-1" strike="noStrike">
                <a:solidFill>
                  <a:srgbClr val="000000"/>
                </a:solidFill>
                <a:latin typeface="Calibri"/>
              </a:rPr>
              <a:t>(form and content, relevant attach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of national law</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But also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Flexibility when pos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ion with the sender if necessa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formation/explanation to the sender when assistance has to be refused</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A7A3420-2225-45E3-B585-18369E07F6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If national law seems to oppose the execution of the request:</a:t>
            </a:r>
            <a:endParaRPr b="0" lang="en-US" sz="4000" spc="-1" strike="noStrike">
              <a:solidFill>
                <a:srgbClr val="000000"/>
              </a:solidFill>
              <a:latin typeface="Calibri"/>
            </a:endParaRPr>
          </a:p>
        </p:txBody>
      </p:sp>
      <p:sp>
        <p:nvSpPr>
          <p:cNvPr id="197" name=""/>
          <p:cNvSpPr txBox="1"/>
          <p:nvPr/>
        </p:nvSpPr>
        <p:spPr>
          <a:xfrm>
            <a:off x="457200" y="1509480"/>
            <a:ext cx="8229600" cy="4755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ee what measures could still be executed</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ook for legal alternatives, if any, which could reach the same goal – as well as for temporary measures to safeguard the evidenc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e with the requesting authority prior to final decision when possible to discuss the alternatives or the supplementary information needed to allow execution</a:t>
            </a:r>
            <a:endParaRPr b="0" lang="en-US" sz="28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FD294E7-656F-4C98-A32E-6901CE9A74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Communication between authorities: ART. 27 of the Budapest Convention</a:t>
            </a:r>
            <a:endParaRPr b="0" lang="en-US" sz="40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icle 27 –Procedures pertaining to mutual assistance requests in the absence of applicable international agreements</a:t>
            </a:r>
            <a:r>
              <a:rPr b="0" lang="en-US" sz="3200" spc="-1" strike="noStrike">
                <a:solidFill>
                  <a:srgbClr val="000000"/>
                </a:solidFill>
                <a:latin typeface="Calibri"/>
              </a:rPr>
              <a:t>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re there is no mutual assistance treaty or arrangement on the basis of uniform or reciprocal legislation in force between the requesting and requested Parties, the provisions of paragraphs 2 through 9 of this article shall apply. The provisions of this article shall not apply where such treaty, arrangement or legislation exists, unless the Parties concerned agree to apply any or all of the remainder of this article in lieu thereof (…)</a:t>
            </a:r>
            <a:endParaRPr b="0" lang="en-US" sz="24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E579C-B7FB-4589-B23B-32456A1830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7 of the Budapest Convention</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96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 Before refusing or postponing assistance, the requested Party shall, where appropriate after having consulted with the requesting Party, consider whether the request may be granted partially or subject to such conditions as it deems necessary.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The requested Party shall promptly inform the requesting Party of the outcome of the execution of a request for assistance. </a:t>
            </a:r>
            <a:r>
              <a:rPr b="0" lang="en-US" sz="2400" spc="-1" strike="noStrike">
                <a:solidFill>
                  <a:srgbClr val="000000"/>
                </a:solidFill>
                <a:latin typeface="Calibri"/>
              </a:rPr>
              <a:t>Reasons shall be given for any refusal or postponement of the request. The requested Party shall also inform the requesting Party of any reasons that render impossible the execution of the request or are likely to delay it significantly.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a:t>
            </a:r>
            <a:endParaRPr b="0" lang="en-US" sz="24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3E4BE-0CF1-4DBC-A1DC-068FEBC173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47935E-3CC9-4D43-882B-15512E0AD2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C96E6CC-3D97-4AA9-AD7B-6D956B1934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8F1968-34CB-401C-B4CA-FEF9BCB22A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States are sovereign within their territo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ternational conventions aims at preserving national sovereignty while organizing ways of coopera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Grounds for refusal are generally limited by conven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Each State have specific criteria as to whether their national law could be applied abro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ternational conventions also aim at preserving national authorities’ powers and procedures to be followed in the requested count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Mutual legal assistance rests on the main following principles:</a:t>
            </a:r>
            <a:endParaRPr b="0" lang="en-US" sz="40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3E9C477-0BB7-49A0-9233-BFA3A5E5EF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art Five</a:t>
            </a:r>
            <a:br>
              <a:rPr sz="3600"/>
            </a:br>
            <a:r>
              <a:rPr b="1" lang="en-GB" sz="3600" spc="-1" strike="noStrike">
                <a:solidFill>
                  <a:srgbClr val="000000"/>
                </a:solidFill>
                <a:latin typeface="Calibri"/>
              </a:rPr>
              <a:t>Summary</a:t>
            </a:r>
            <a:br>
              <a:rPr sz="3600"/>
            </a:br>
            <a:endParaRPr b="0" lang="en-US" sz="36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42BAC7B2-6F32-41F0-B09D-F9DADBE7E08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18"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At the end of this session, participants will be able to:</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Improve or refresh their knowledge about the general principles of mutual legal assistance</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Know how to strengthen the chances of an MLA request to be executed at the drafting stage</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Adopt an efficiency perspective when receiving an MLA request from a foreign country</a:t>
            </a:r>
            <a:endParaRPr b="0" lang="en-US" sz="32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BD6C3155-1B65-449A-B20D-D3A56D2CC83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ＭＳ Ｐゴシック"/>
              </a:rPr>
              <a:t>Questions</a:t>
            </a:r>
            <a:endParaRPr b="0" lang="en-US" sz="5400" spc="-1" strike="noStrike">
              <a:solidFill>
                <a:srgbClr val="000000"/>
              </a:solidFill>
              <a:latin typeface="Arial"/>
            </a:endParaRPr>
          </a:p>
        </p:txBody>
      </p:sp>
      <p:sp>
        <p:nvSpPr>
          <p:cNvPr id="22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9F4D383E-591B-407B-901A-F3E40120A93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New challenges to international cooperation:</a:t>
            </a:r>
            <a:endParaRPr b="0" lang="en-US" sz="44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se of phones and computers across borders to commit cri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se of applications/encrypted emails or messages to communicate across borders with partners in cri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idence located abro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Volatility of data as piece of evid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uration of the regular, mutual legal assistance process</a:t>
            </a:r>
            <a:endParaRPr b="0" lang="en-US" sz="28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9FAAA8E-EC44-4CA3-8185-F5DF8FB86B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Judicial reality   vs.   Digital reality</a:t>
            </a:r>
            <a:endParaRPr b="0" lang="en-US" sz="3600" spc="-1" strike="noStrike">
              <a:solidFill>
                <a:srgbClr val="000000"/>
              </a:solidFill>
              <a:latin typeface="Calibri"/>
            </a:endParaRPr>
          </a:p>
        </p:txBody>
      </p:sp>
      <p:graphicFrame>
        <p:nvGraphicFramePr>
          <p:cNvPr id="71" name=""/>
          <p:cNvGraphicFramePr/>
          <p:nvPr/>
        </p:nvGraphicFramePr>
        <p:xfrm>
          <a:off x="541440" y="1168560"/>
          <a:ext cx="8145360" cy="5578200"/>
        </p:xfrm>
        <a:graphic>
          <a:graphicData uri="http://schemas.openxmlformats.org/drawingml/2006/table">
            <a:tbl>
              <a:tblPr/>
              <a:tblGrid>
                <a:gridCol w="4073400"/>
                <a:gridCol w="4071960"/>
              </a:tblGrid>
              <a:tr h="55782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A certain time to commit cri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Visible effects of the crime (victim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erritorial jurisdiction and sovereign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vidence usually visible to human eye (bank records, blood, knife, D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ime needed to investigate and collect evide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Place to investigate easily determin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Usually specialized LE and prosecutors and judg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econds to exchange files and commit cri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Invisible effects of the crime (victim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nternational effects of the crime and evidence everywher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lectronic evidence difficult to find and highly volatile, sometimes encrypt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High volatility of electronic evide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Uncertainty on where the data 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pecialized LE and trained prosecutors and judges still needed as technology evolves and lawyers are not always geeks</a:t>
                      </a:r>
                      <a:endParaRPr b="0" lang="en-US" sz="18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
        <p:nvSpPr>
          <p:cNvPr id="7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192B7B-DF62-4091-95FE-AF3C648487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hallenge</a:t>
            </a:r>
            <a:endParaRPr b="0" lang="en-US" sz="36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for respecting other States’ sovereignty and for complying with international convention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s.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for more efficiency, and for more swiftness in collecting electronic evidence and  in arresting perpetrators</a:t>
            </a:r>
            <a:endParaRPr b="0" lang="en-US" sz="32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41455C9-B8CE-4984-8D31-2B4355173D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Emma Emma</cp:lastModifiedBy>
  <cp:lastPrinted>2017-06-04T15:39:20Z</cp:lastPrinted>
  <dcterms:modified xsi:type="dcterms:W3CDTF">2017-10-08T14:34:07Z</dcterms:modified>
  <cp:revision>99</cp:revision>
  <dc:subject/>
  <dc:title>Introductory Cybercrime Training for Judges and Prosecutors</dc:title>
</cp:coreProperties>
</file>